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CA4-DD85-47B6-9118-BF03EA6F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B225-1364-46A7-B97F-CF7FF879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228-AF61-4CC0-9397-05523F05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8F2-5036-4474-B6FC-F924B3F7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169-D439-49CA-8598-E1838AE3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1669-68AD-4301-8EEC-9E0A4FD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B59-B5F8-4E12-ADDD-CC78AFF5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DE1-D5C4-4B9B-BAE3-C0D773CE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F39-EA63-4A62-9317-0729AF6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734-BA93-44EB-8FD9-3DE674A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58ED-7232-42F7-A2B8-3941AA2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704-7C12-451C-BEB8-0FD72B39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D0D5-E62E-4432-85ED-5BAB01E0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CAS METAMÓR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PUEDEN FORMAR A PARTIR DE LAS ROCAS IGNEAS, SEDIMENTARIAS  O  ROCA METAMORFIZADA  PREVIAMENTE,  POR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ECRISTAIZACIÓN EN ESTADO SÓL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FUERZAS QUE LLEVAN  LA METAMORFIZACIÓN SON LOS CAMBIOS EN L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MPERATURA, PRESIÓN, Y COMPOSICIÓN DE FLUI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 LOS POROS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CAMBIOS EN LA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,  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y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f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N NUEVOS MINERALES, NUEVAS TEXTURAS Y NUEVAS ESTRUCTURAS EN LOS CUERPOS DE ROCAS AFEC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URANTE EL METAMORFISMO, GENERALMENTE NUEVOS GRANOS DE MINERALES CRECEN EN LA DIRECCIÓN DEL ÚLTIMO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,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DUCIENDO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STRUCTURA PLAN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LAMADA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ROCAS CON UN SOLO MINERAL (COMO CALIZA) O AQUELLAS QUE RECRISTALIZAN EN AUSENCIA D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T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FORMADOR NO DESARROLLA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OLIACIÓ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OTORIA PERO SI UN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TEXTURA GRAN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4" idx="0"/>
            <a:endCxn id="160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53" idx="0"/>
            <a:endCxn id="160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2" idx="2"/>
            <a:endCxn id="160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5" idx="2"/>
            <a:endCxn id="165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76" idx="0"/>
            <a:endCxn id="182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75" idx="0"/>
            <a:endCxn id="182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4" idx="2"/>
            <a:endCxn id="182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7" idx="2"/>
            <a:endCxn id="187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133600" y="727560"/>
            <a:ext cx="149400" cy="2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074200">
            <a:off x="5942880" y="9140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fu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02" idx="0"/>
            <a:endCxn id="208" idx="0"/>
          </p:cNvCxnSpPr>
          <p:nvPr/>
        </p:nvCxnSpPr>
        <p:spPr>
          <a:xfrm flipV="1" rot="16200000">
            <a:off x="1325880" y="3705480"/>
            <a:ext cx="1828080" cy="112788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1" idx="0"/>
            <a:endCxn id="208" idx="0"/>
          </p:cNvCxnSpPr>
          <p:nvPr/>
        </p:nvCxnSpPr>
        <p:spPr>
          <a:xfrm flipV="1" rot="16200000">
            <a:off x="2937960" y="2093400"/>
            <a:ext cx="2013840" cy="4537800"/>
          </a:xfrm>
          <a:prstGeom prst="curvedConnector2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0" idx="2"/>
            <a:endCxn id="208" idx="0"/>
          </p:cNvCxnSpPr>
          <p:nvPr/>
        </p:nvCxnSpPr>
        <p:spPr>
          <a:xfrm flipH="1">
            <a:off x="1676160" y="2725200"/>
            <a:ext cx="5355360" cy="631080"/>
          </a:xfrm>
          <a:prstGeom prst="straightConnector1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03" idx="2"/>
            <a:endCxn id="213" idx="0"/>
          </p:cNvCxnSpPr>
          <p:nvPr/>
        </p:nvCxnSpPr>
        <p:spPr>
          <a:xfrm>
            <a:off x="2260080" y="2595600"/>
            <a:ext cx="5101560" cy="1575360"/>
          </a:xfrm>
          <a:prstGeom prst="straightConnector1">
            <a:avLst/>
          </a:prstGeom>
          <a:ln w="28440">
            <a:solidFill>
              <a:srgbClr val="66ff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1219320" y="228600"/>
            <a:ext cx="6781680" cy="6400800"/>
          </a:xfrm>
          <a:prstGeom prst="ellipse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2590920"/>
            <a:ext cx="6400800" cy="4190760"/>
          </a:xfrm>
          <a:custGeom>
            <a:avLst/>
            <a:gdLst/>
            <a:ahLst/>
            <a:rect l="l" t="t" r="r" b="b"/>
            <a:pathLst>
              <a:path w="4032" h="2640">
                <a:moveTo>
                  <a:pt x="96" y="0"/>
                </a:moveTo>
                <a:lnTo>
                  <a:pt x="192" y="96"/>
                </a:lnTo>
                <a:lnTo>
                  <a:pt x="144" y="240"/>
                </a:lnTo>
                <a:lnTo>
                  <a:pt x="144" y="528"/>
                </a:lnTo>
                <a:lnTo>
                  <a:pt x="192" y="960"/>
                </a:lnTo>
                <a:lnTo>
                  <a:pt x="336" y="1344"/>
                </a:lnTo>
                <a:lnTo>
                  <a:pt x="528" y="1680"/>
                </a:lnTo>
                <a:lnTo>
                  <a:pt x="864" y="2064"/>
                </a:lnTo>
                <a:lnTo>
                  <a:pt x="1248" y="2256"/>
                </a:lnTo>
                <a:lnTo>
                  <a:pt x="1776" y="2448"/>
                </a:lnTo>
                <a:lnTo>
                  <a:pt x="2208" y="2496"/>
                </a:lnTo>
                <a:lnTo>
                  <a:pt x="2784" y="2448"/>
                </a:lnTo>
                <a:lnTo>
                  <a:pt x="3360" y="2208"/>
                </a:lnTo>
                <a:lnTo>
                  <a:pt x="3744" y="1920"/>
                </a:lnTo>
                <a:lnTo>
                  <a:pt x="3984" y="1632"/>
                </a:lnTo>
                <a:lnTo>
                  <a:pt x="4032" y="1728"/>
                </a:lnTo>
                <a:lnTo>
                  <a:pt x="3648" y="2208"/>
                </a:lnTo>
                <a:lnTo>
                  <a:pt x="3120" y="2496"/>
                </a:lnTo>
                <a:lnTo>
                  <a:pt x="2448" y="2640"/>
                </a:lnTo>
                <a:lnTo>
                  <a:pt x="1584" y="2592"/>
                </a:lnTo>
                <a:lnTo>
                  <a:pt x="768" y="2208"/>
                </a:lnTo>
                <a:lnTo>
                  <a:pt x="240" y="1440"/>
                </a:lnTo>
                <a:lnTo>
                  <a:pt x="0" y="96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2638800">
            <a:off x="6499800" y="9061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News Gothic MT"/>
              </a:rPr>
              <a:t>END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2286000"/>
            <a:ext cx="304560" cy="4572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96" y="0"/>
                </a:moveTo>
                <a:lnTo>
                  <a:pt x="192" y="48"/>
                </a:lnTo>
                <a:lnTo>
                  <a:pt x="48" y="288"/>
                </a:lnTo>
                <a:lnTo>
                  <a:pt x="0" y="240"/>
                </a:lnTo>
                <a:lnTo>
                  <a:pt x="96" y="48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52280"/>
            <a:ext cx="6934320" cy="6629400"/>
          </a:xfrm>
          <a:prstGeom prst="ellipse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130320"/>
            <a:ext cx="6867360" cy="5672160"/>
          </a:xfrm>
          <a:custGeom>
            <a:avLst/>
            <a:gdLst/>
            <a:ahLst/>
            <a:rect l="l" t="t" r="r" b="b"/>
            <a:pathLst>
              <a:path w="4326" h="3573">
                <a:moveTo>
                  <a:pt x="0" y="1598"/>
                </a:moveTo>
                <a:cubicBezTo>
                  <a:pt x="26" y="1500"/>
                  <a:pt x="52" y="1403"/>
                  <a:pt x="89" y="1313"/>
                </a:cubicBezTo>
                <a:cubicBezTo>
                  <a:pt x="126" y="1223"/>
                  <a:pt x="165" y="1147"/>
                  <a:pt x="222" y="1056"/>
                </a:cubicBezTo>
                <a:cubicBezTo>
                  <a:pt x="279" y="965"/>
                  <a:pt x="357" y="854"/>
                  <a:pt x="432" y="767"/>
                </a:cubicBezTo>
                <a:cubicBezTo>
                  <a:pt x="507" y="680"/>
                  <a:pt x="584" y="609"/>
                  <a:pt x="674" y="534"/>
                </a:cubicBezTo>
                <a:cubicBezTo>
                  <a:pt x="764" y="459"/>
                  <a:pt x="860" y="380"/>
                  <a:pt x="970" y="315"/>
                </a:cubicBezTo>
                <a:cubicBezTo>
                  <a:pt x="1080" y="250"/>
                  <a:pt x="1204" y="192"/>
                  <a:pt x="1336" y="144"/>
                </a:cubicBezTo>
                <a:cubicBezTo>
                  <a:pt x="1468" y="96"/>
                  <a:pt x="1629" y="50"/>
                  <a:pt x="1765" y="27"/>
                </a:cubicBezTo>
                <a:cubicBezTo>
                  <a:pt x="1901" y="4"/>
                  <a:pt x="2010" y="0"/>
                  <a:pt x="2154" y="4"/>
                </a:cubicBezTo>
                <a:cubicBezTo>
                  <a:pt x="2298" y="8"/>
                  <a:pt x="2500" y="27"/>
                  <a:pt x="2630" y="50"/>
                </a:cubicBezTo>
                <a:cubicBezTo>
                  <a:pt x="2760" y="73"/>
                  <a:pt x="2824" y="101"/>
                  <a:pt x="2933" y="144"/>
                </a:cubicBezTo>
                <a:cubicBezTo>
                  <a:pt x="3042" y="187"/>
                  <a:pt x="3167" y="239"/>
                  <a:pt x="3284" y="308"/>
                </a:cubicBezTo>
                <a:cubicBezTo>
                  <a:pt x="3401" y="377"/>
                  <a:pt x="3530" y="462"/>
                  <a:pt x="3635" y="557"/>
                </a:cubicBezTo>
                <a:cubicBezTo>
                  <a:pt x="3740" y="652"/>
                  <a:pt x="3836" y="769"/>
                  <a:pt x="3915" y="877"/>
                </a:cubicBezTo>
                <a:cubicBezTo>
                  <a:pt x="3994" y="985"/>
                  <a:pt x="4055" y="1098"/>
                  <a:pt x="4110" y="1204"/>
                </a:cubicBezTo>
                <a:cubicBezTo>
                  <a:pt x="4165" y="1310"/>
                  <a:pt x="4209" y="1404"/>
                  <a:pt x="4243" y="1516"/>
                </a:cubicBezTo>
                <a:cubicBezTo>
                  <a:pt x="4277" y="1628"/>
                  <a:pt x="4300" y="1759"/>
                  <a:pt x="4313" y="1874"/>
                </a:cubicBezTo>
                <a:cubicBezTo>
                  <a:pt x="4326" y="1989"/>
                  <a:pt x="4326" y="2087"/>
                  <a:pt x="4321" y="2209"/>
                </a:cubicBezTo>
                <a:cubicBezTo>
                  <a:pt x="4316" y="2331"/>
                  <a:pt x="4309" y="2485"/>
                  <a:pt x="4282" y="2607"/>
                </a:cubicBezTo>
                <a:cubicBezTo>
                  <a:pt x="4255" y="2729"/>
                  <a:pt x="4212" y="2830"/>
                  <a:pt x="4157" y="2942"/>
                </a:cubicBezTo>
                <a:cubicBezTo>
                  <a:pt x="4102" y="3054"/>
                  <a:pt x="4031" y="3172"/>
                  <a:pt x="3954" y="3277"/>
                </a:cubicBezTo>
                <a:cubicBezTo>
                  <a:pt x="3877" y="3382"/>
                  <a:pt x="3716" y="3493"/>
                  <a:pt x="3697" y="357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28600" cy="38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70"/>
                </a:moveTo>
                <a:cubicBezTo>
                  <a:pt x="7" y="51"/>
                  <a:pt x="24" y="0"/>
                  <a:pt x="4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3126600">
            <a:off x="493920" y="5371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News Gothic MT"/>
              </a:rPr>
              <a:t>EXÓ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838160"/>
            <a:ext cx="304920" cy="644760"/>
          </a:xfrm>
          <a:custGeom>
            <a:avLst/>
            <a:gdLst/>
            <a:ahLst/>
            <a:rect l="l" t="t" r="r" b="b"/>
            <a:pathLst>
              <a:path w="192" h="406">
                <a:moveTo>
                  <a:pt x="0" y="406"/>
                </a:moveTo>
                <a:cubicBezTo>
                  <a:pt x="9" y="380"/>
                  <a:pt x="21" y="358"/>
                  <a:pt x="32" y="334"/>
                </a:cubicBezTo>
                <a:cubicBezTo>
                  <a:pt x="35" y="326"/>
                  <a:pt x="35" y="317"/>
                  <a:pt x="40" y="310"/>
                </a:cubicBezTo>
                <a:cubicBezTo>
                  <a:pt x="45" y="302"/>
                  <a:pt x="53" y="295"/>
                  <a:pt x="56" y="286"/>
                </a:cubicBezTo>
                <a:cubicBezTo>
                  <a:pt x="59" y="278"/>
                  <a:pt x="64" y="262"/>
                  <a:pt x="64" y="262"/>
                </a:cubicBezTo>
                <a:cubicBezTo>
                  <a:pt x="67" y="228"/>
                  <a:pt x="62" y="219"/>
                  <a:pt x="88" y="202"/>
                </a:cubicBezTo>
                <a:cubicBezTo>
                  <a:pt x="95" y="180"/>
                  <a:pt x="101" y="158"/>
                  <a:pt x="112" y="138"/>
                </a:cubicBezTo>
                <a:cubicBezTo>
                  <a:pt x="119" y="125"/>
                  <a:pt x="131" y="116"/>
                  <a:pt x="136" y="102"/>
                </a:cubicBezTo>
                <a:cubicBezTo>
                  <a:pt x="139" y="94"/>
                  <a:pt x="139" y="85"/>
                  <a:pt x="144" y="78"/>
                </a:cubicBezTo>
                <a:cubicBezTo>
                  <a:pt x="155" y="62"/>
                  <a:pt x="165" y="46"/>
                  <a:pt x="176" y="30"/>
                </a:cubicBezTo>
                <a:cubicBezTo>
                  <a:pt x="179" y="25"/>
                  <a:pt x="182" y="19"/>
                  <a:pt x="184" y="14"/>
                </a:cubicBezTo>
                <a:cubicBezTo>
                  <a:pt x="186" y="10"/>
                  <a:pt x="192" y="4"/>
                  <a:pt x="188" y="2"/>
                </a:cubicBezTo>
                <a:cubicBezTo>
                  <a:pt x="184" y="0"/>
                  <a:pt x="180" y="7"/>
                  <a:pt x="176" y="10"/>
                </a:cubicBezTo>
                <a:cubicBezTo>
                  <a:pt x="166" y="25"/>
                  <a:pt x="171" y="19"/>
                  <a:pt x="160" y="3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73920" y="4197240"/>
            <a:ext cx="120600" cy="406440"/>
          </a:xfrm>
          <a:custGeom>
            <a:avLst/>
            <a:gdLst/>
            <a:ahLst/>
            <a:rect l="l" t="t" r="r" b="b"/>
            <a:pathLst>
              <a:path w="76" h="256">
                <a:moveTo>
                  <a:pt x="0" y="256"/>
                </a:moveTo>
                <a:cubicBezTo>
                  <a:pt x="10" y="206"/>
                  <a:pt x="32" y="153"/>
                  <a:pt x="48" y="104"/>
                </a:cubicBezTo>
                <a:cubicBezTo>
                  <a:pt x="54" y="85"/>
                  <a:pt x="58" y="67"/>
                  <a:pt x="64" y="48"/>
                </a:cubicBezTo>
                <a:cubicBezTo>
                  <a:pt x="67" y="40"/>
                  <a:pt x="72" y="24"/>
                  <a:pt x="72" y="24"/>
                </a:cubicBezTo>
                <a:cubicBezTo>
                  <a:pt x="71" y="20"/>
                  <a:pt x="67" y="16"/>
                  <a:pt x="68" y="12"/>
                </a:cubicBezTo>
                <a:cubicBezTo>
                  <a:pt x="69" y="7"/>
                  <a:pt x="76" y="0"/>
                  <a:pt x="76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9600" y="885960"/>
            <a:ext cx="120960" cy="114120"/>
          </a:xfrm>
          <a:custGeom>
            <a:avLst/>
            <a:gdLst/>
            <a:ahLst/>
            <a:rect l="l" t="t" r="r" b="b"/>
            <a:pathLst>
              <a:path w="76" h="72">
                <a:moveTo>
                  <a:pt x="0" y="0"/>
                </a:moveTo>
                <a:cubicBezTo>
                  <a:pt x="46" y="5"/>
                  <a:pt x="27" y="4"/>
                  <a:pt x="39" y="39"/>
                </a:cubicBezTo>
                <a:cubicBezTo>
                  <a:pt x="60" y="32"/>
                  <a:pt x="51" y="31"/>
                  <a:pt x="66" y="36"/>
                </a:cubicBezTo>
                <a:cubicBezTo>
                  <a:pt x="76" y="51"/>
                  <a:pt x="75" y="53"/>
                  <a:pt x="72" y="72"/>
                </a:cubicBezTo>
                <a:cubicBezTo>
                  <a:pt x="50" y="65"/>
                  <a:pt x="65" y="57"/>
                  <a:pt x="54" y="39"/>
                </a:cubicBezTo>
                <a:cubicBezTo>
                  <a:pt x="50" y="33"/>
                  <a:pt x="42" y="31"/>
                  <a:pt x="36" y="27"/>
                </a:cubicBezTo>
                <a:cubicBezTo>
                  <a:pt x="33" y="25"/>
                  <a:pt x="27" y="21"/>
                  <a:pt x="27" y="21"/>
                </a:cubicBezTo>
                <a:cubicBezTo>
                  <a:pt x="26" y="19"/>
                  <a:pt x="12" y="3"/>
                  <a:pt x="21" y="3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03880" y="179280"/>
            <a:ext cx="426960" cy="144720"/>
          </a:xfrm>
          <a:custGeom>
            <a:avLst/>
            <a:gdLst/>
            <a:ahLst/>
            <a:rect l="l" t="t" r="r" b="b"/>
            <a:pathLst>
              <a:path w="269" h="91">
                <a:moveTo>
                  <a:pt x="25" y="37"/>
                </a:moveTo>
                <a:cubicBezTo>
                  <a:pt x="32" y="32"/>
                  <a:pt x="38" y="26"/>
                  <a:pt x="46" y="22"/>
                </a:cubicBezTo>
                <a:cubicBezTo>
                  <a:pt x="52" y="19"/>
                  <a:pt x="64" y="16"/>
                  <a:pt x="64" y="16"/>
                </a:cubicBezTo>
                <a:cubicBezTo>
                  <a:pt x="90" y="20"/>
                  <a:pt x="98" y="35"/>
                  <a:pt x="115" y="52"/>
                </a:cubicBezTo>
                <a:cubicBezTo>
                  <a:pt x="122" y="59"/>
                  <a:pt x="142" y="64"/>
                  <a:pt x="142" y="64"/>
                </a:cubicBezTo>
                <a:cubicBezTo>
                  <a:pt x="153" y="58"/>
                  <a:pt x="164" y="52"/>
                  <a:pt x="175" y="46"/>
                </a:cubicBezTo>
                <a:cubicBezTo>
                  <a:pt x="184" y="47"/>
                  <a:pt x="193" y="47"/>
                  <a:pt x="202" y="49"/>
                </a:cubicBezTo>
                <a:cubicBezTo>
                  <a:pt x="211" y="51"/>
                  <a:pt x="229" y="58"/>
                  <a:pt x="229" y="58"/>
                </a:cubicBezTo>
                <a:cubicBezTo>
                  <a:pt x="238" y="67"/>
                  <a:pt x="252" y="73"/>
                  <a:pt x="235" y="79"/>
                </a:cubicBezTo>
                <a:cubicBezTo>
                  <a:pt x="220" y="75"/>
                  <a:pt x="208" y="73"/>
                  <a:pt x="196" y="61"/>
                </a:cubicBezTo>
                <a:cubicBezTo>
                  <a:pt x="188" y="53"/>
                  <a:pt x="174" y="35"/>
                  <a:pt x="160" y="34"/>
                </a:cubicBezTo>
                <a:cubicBezTo>
                  <a:pt x="136" y="32"/>
                  <a:pt x="112" y="32"/>
                  <a:pt x="88" y="31"/>
                </a:cubicBezTo>
                <a:cubicBezTo>
                  <a:pt x="81" y="30"/>
                  <a:pt x="74" y="30"/>
                  <a:pt x="67" y="28"/>
                </a:cubicBezTo>
                <a:cubicBezTo>
                  <a:pt x="61" y="27"/>
                  <a:pt x="49" y="22"/>
                  <a:pt x="49" y="22"/>
                </a:cubicBezTo>
                <a:cubicBezTo>
                  <a:pt x="34" y="0"/>
                  <a:pt x="62" y="5"/>
                  <a:pt x="76" y="7"/>
                </a:cubicBezTo>
                <a:cubicBezTo>
                  <a:pt x="115" y="20"/>
                  <a:pt x="142" y="57"/>
                  <a:pt x="181" y="67"/>
                </a:cubicBezTo>
                <a:cubicBezTo>
                  <a:pt x="207" y="65"/>
                  <a:pt x="228" y="60"/>
                  <a:pt x="253" y="64"/>
                </a:cubicBezTo>
                <a:cubicBezTo>
                  <a:pt x="269" y="69"/>
                  <a:pt x="265" y="76"/>
                  <a:pt x="262" y="91"/>
                </a:cubicBezTo>
                <a:cubicBezTo>
                  <a:pt x="229" y="86"/>
                  <a:pt x="210" y="69"/>
                  <a:pt x="187" y="46"/>
                </a:cubicBezTo>
                <a:cubicBezTo>
                  <a:pt x="177" y="36"/>
                  <a:pt x="175" y="38"/>
                  <a:pt x="163" y="31"/>
                </a:cubicBezTo>
                <a:cubicBezTo>
                  <a:pt x="157" y="27"/>
                  <a:pt x="145" y="19"/>
                  <a:pt x="145" y="19"/>
                </a:cubicBezTo>
                <a:cubicBezTo>
                  <a:pt x="117" y="23"/>
                  <a:pt x="89" y="33"/>
                  <a:pt x="61" y="40"/>
                </a:cubicBezTo>
                <a:cubicBezTo>
                  <a:pt x="29" y="37"/>
                  <a:pt x="31" y="41"/>
                  <a:pt x="19" y="19"/>
                </a:cubicBezTo>
                <a:cubicBezTo>
                  <a:pt x="15" y="13"/>
                  <a:pt x="0" y="0"/>
                  <a:pt x="7" y="1"/>
                </a:cubicBezTo>
                <a:cubicBezTo>
                  <a:pt x="45" y="4"/>
                  <a:pt x="122" y="7"/>
                  <a:pt x="157" y="25"/>
                </a:cubicBezTo>
                <a:cubicBezTo>
                  <a:pt x="178" y="35"/>
                  <a:pt x="198" y="51"/>
                  <a:pt x="220" y="58"/>
                </a:cubicBezTo>
                <a:cubicBezTo>
                  <a:pt x="230" y="68"/>
                  <a:pt x="240" y="81"/>
                  <a:pt x="253" y="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380880"/>
            <a:ext cx="585720" cy="419400"/>
          </a:xfrm>
          <a:custGeom>
            <a:avLst/>
            <a:gdLst/>
            <a:ahLst/>
            <a:rect l="l" t="t" r="r" b="b"/>
            <a:pathLst>
              <a:path w="300" h="180">
                <a:moveTo>
                  <a:pt x="0" y="141"/>
                </a:moveTo>
                <a:cubicBezTo>
                  <a:pt x="26" y="121"/>
                  <a:pt x="32" y="115"/>
                  <a:pt x="66" y="111"/>
                </a:cubicBezTo>
                <a:cubicBezTo>
                  <a:pt x="102" y="102"/>
                  <a:pt x="130" y="93"/>
                  <a:pt x="162" y="72"/>
                </a:cubicBezTo>
                <a:cubicBezTo>
                  <a:pt x="166" y="69"/>
                  <a:pt x="184" y="67"/>
                  <a:pt x="186" y="66"/>
                </a:cubicBezTo>
                <a:cubicBezTo>
                  <a:pt x="194" y="64"/>
                  <a:pt x="210" y="60"/>
                  <a:pt x="210" y="60"/>
                </a:cubicBezTo>
                <a:cubicBezTo>
                  <a:pt x="216" y="56"/>
                  <a:pt x="222" y="52"/>
                  <a:pt x="228" y="48"/>
                </a:cubicBezTo>
                <a:cubicBezTo>
                  <a:pt x="235" y="43"/>
                  <a:pt x="253" y="25"/>
                  <a:pt x="246" y="30"/>
                </a:cubicBezTo>
                <a:cubicBezTo>
                  <a:pt x="243" y="32"/>
                  <a:pt x="240" y="34"/>
                  <a:pt x="237" y="36"/>
                </a:cubicBezTo>
                <a:cubicBezTo>
                  <a:pt x="235" y="43"/>
                  <a:pt x="235" y="51"/>
                  <a:pt x="231" y="57"/>
                </a:cubicBezTo>
                <a:cubicBezTo>
                  <a:pt x="208" y="97"/>
                  <a:pt x="115" y="128"/>
                  <a:pt x="72" y="135"/>
                </a:cubicBezTo>
                <a:cubicBezTo>
                  <a:pt x="63" y="141"/>
                  <a:pt x="53" y="143"/>
                  <a:pt x="45" y="150"/>
                </a:cubicBezTo>
                <a:cubicBezTo>
                  <a:pt x="31" y="161"/>
                  <a:pt x="27" y="174"/>
                  <a:pt x="9" y="180"/>
                </a:cubicBezTo>
                <a:cubicBezTo>
                  <a:pt x="3" y="157"/>
                  <a:pt x="14" y="151"/>
                  <a:pt x="36" y="147"/>
                </a:cubicBezTo>
                <a:cubicBezTo>
                  <a:pt x="57" y="133"/>
                  <a:pt x="82" y="119"/>
                  <a:pt x="105" y="108"/>
                </a:cubicBezTo>
                <a:cubicBezTo>
                  <a:pt x="111" y="105"/>
                  <a:pt x="118" y="106"/>
                  <a:pt x="123" y="102"/>
                </a:cubicBezTo>
                <a:cubicBezTo>
                  <a:pt x="141" y="90"/>
                  <a:pt x="165" y="75"/>
                  <a:pt x="186" y="69"/>
                </a:cubicBezTo>
                <a:cubicBezTo>
                  <a:pt x="226" y="58"/>
                  <a:pt x="260" y="58"/>
                  <a:pt x="291" y="27"/>
                </a:cubicBezTo>
                <a:cubicBezTo>
                  <a:pt x="300" y="0"/>
                  <a:pt x="242" y="31"/>
                  <a:pt x="231" y="36"/>
                </a:cubicBezTo>
                <a:cubicBezTo>
                  <a:pt x="222" y="49"/>
                  <a:pt x="213" y="58"/>
                  <a:pt x="198" y="63"/>
                </a:cubicBezTo>
                <a:cubicBezTo>
                  <a:pt x="171" y="83"/>
                  <a:pt x="94" y="113"/>
                  <a:pt x="60" y="120"/>
                </a:cubicBezTo>
                <a:cubicBezTo>
                  <a:pt x="44" y="131"/>
                  <a:pt x="28" y="140"/>
                  <a:pt x="12" y="150"/>
                </a:cubicBezTo>
                <a:cubicBezTo>
                  <a:pt x="1" y="117"/>
                  <a:pt x="56" y="106"/>
                  <a:pt x="78" y="102"/>
                </a:cubicBezTo>
                <a:cubicBezTo>
                  <a:pt x="109" y="81"/>
                  <a:pt x="138" y="63"/>
                  <a:pt x="174" y="54"/>
                </a:cubicBezTo>
                <a:cubicBezTo>
                  <a:pt x="201" y="36"/>
                  <a:pt x="234" y="21"/>
                  <a:pt x="267" y="2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S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ONTACT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ASOCIADO A CAMBIOS TERMALES Y QUÍMICO CERCA DEL CONTACTO DE LOS CUERPOS INTRUSIVOS IGNEOS, Y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REGION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QUE SE DESARROLLA EN LAS RAICES DE LAS CADENAS MONTAÑOSAS,  A LOS LARGO DE LOS CONTACTOS CONVERGENTES DE PLACAS,  DONDE LA PRESIÓN Y LA TEMPERATURA CRECEN DE MANERA EXCEPCIONALMENTE ALTO. EXISTE TAMBIÉN U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DE CARG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Y UN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METAMORFISMO  DINÁMICO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en zonas de fall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NAS DE MINERAL SE PRODUCEN DONDE LA TEMPERATURA, PRESIÓN   O   COMPOSICIÓN  DE  LOS   FLUIDOS   VARÍAN SISTEMÁTICAMENTE A TRAVÉS DE CADENAS METAMÓRFICAS   O ALREDEDOR DE CUERPOS INTRUSIVOS IGNE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TIPOS MAYORES D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 METAMÓRFICAS 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IZARRAS, ESQUISTOS, GNEISS Y MILON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ROCAS NO FOLIAD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MPORTANTES  INCLUYEN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UARCITAS, MÁRMOL, ROCAS CORNEAS, ROCAS VERDES Y GRANULIT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   ELLAS SE DISTINGUEN POR SU TEXTURA Y,  SECUNDARIAMENTE,  POR SU COMPOS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O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intensidad del metamorfismo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tita                       Piza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iolita                              Esqu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ito                                        Gn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salto                                  Anfibol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liza                                  Mar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enisca                              Cuar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18288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29200" y="2168640"/>
            <a:ext cx="18288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1600200"/>
            <a:ext cx="1600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352680"/>
            <a:ext cx="304776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5812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2666880"/>
            <a:ext cx="68580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676520"/>
            <a:ext cx="76212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7432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3962520"/>
            <a:ext cx="26668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191120"/>
            <a:ext cx="2743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267080" y="2743200"/>
            <a:ext cx="106704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95680"/>
            <a:ext cx="358164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724280"/>
            <a:ext cx="2133720" cy="1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105520"/>
            <a:ext cx="320040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4120"/>
            <a:ext cx="1981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066680"/>
            <a:ext cx="2438640" cy="0"/>
          </a:xfrm>
          <a:prstGeom prst="line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CICLO  DE   LAS RO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4140000">
            <a:off x="6358680" y="2416320"/>
            <a:ext cx="19126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2895480"/>
            <a:ext cx="285480" cy="1727280"/>
          </a:xfrm>
          <a:custGeom>
            <a:avLst/>
            <a:gdLst/>
            <a:ahLst/>
            <a:rect l="l" t="t" r="r" b="b"/>
            <a:pathLst>
              <a:path w="180" h="1060">
                <a:moveTo>
                  <a:pt x="32" y="0"/>
                </a:moveTo>
                <a:cubicBezTo>
                  <a:pt x="23" y="35"/>
                  <a:pt x="18" y="72"/>
                  <a:pt x="12" y="108"/>
                </a:cubicBezTo>
                <a:cubicBezTo>
                  <a:pt x="10" y="166"/>
                  <a:pt x="5" y="212"/>
                  <a:pt x="0" y="268"/>
                </a:cubicBezTo>
                <a:cubicBezTo>
                  <a:pt x="7" y="385"/>
                  <a:pt x="3" y="501"/>
                  <a:pt x="40" y="612"/>
                </a:cubicBezTo>
                <a:cubicBezTo>
                  <a:pt x="42" y="664"/>
                  <a:pt x="29" y="689"/>
                  <a:pt x="60" y="720"/>
                </a:cubicBezTo>
                <a:cubicBezTo>
                  <a:pt x="71" y="753"/>
                  <a:pt x="54" y="701"/>
                  <a:pt x="68" y="764"/>
                </a:cubicBezTo>
                <a:cubicBezTo>
                  <a:pt x="81" y="825"/>
                  <a:pt x="102" y="900"/>
                  <a:pt x="136" y="952"/>
                </a:cubicBezTo>
                <a:cubicBezTo>
                  <a:pt x="135" y="964"/>
                  <a:pt x="130" y="976"/>
                  <a:pt x="132" y="988"/>
                </a:cubicBezTo>
                <a:cubicBezTo>
                  <a:pt x="133" y="993"/>
                  <a:pt x="172" y="1052"/>
                  <a:pt x="180" y="1060"/>
                </a:cubicBezTo>
                <a:cubicBezTo>
                  <a:pt x="175" y="1044"/>
                  <a:pt x="163" y="1043"/>
                  <a:pt x="156" y="1028"/>
                </a:cubicBezTo>
                <a:cubicBezTo>
                  <a:pt x="148" y="1009"/>
                  <a:pt x="143" y="988"/>
                  <a:pt x="136" y="968"/>
                </a:cubicBezTo>
                <a:cubicBezTo>
                  <a:pt x="133" y="959"/>
                  <a:pt x="123" y="953"/>
                  <a:pt x="120" y="944"/>
                </a:cubicBezTo>
                <a:cubicBezTo>
                  <a:pt x="83" y="834"/>
                  <a:pt x="28" y="718"/>
                  <a:pt x="28" y="6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65640" y="5918040"/>
            <a:ext cx="2209680" cy="282600"/>
          </a:xfrm>
          <a:custGeom>
            <a:avLst/>
            <a:gdLst/>
            <a:ahLst/>
            <a:rect l="l" t="t" r="r" b="b"/>
            <a:pathLst>
              <a:path w="1328" h="166">
                <a:moveTo>
                  <a:pt x="0" y="0"/>
                </a:moveTo>
                <a:cubicBezTo>
                  <a:pt x="54" y="11"/>
                  <a:pt x="102" y="35"/>
                  <a:pt x="152" y="56"/>
                </a:cubicBezTo>
                <a:cubicBezTo>
                  <a:pt x="180" y="68"/>
                  <a:pt x="211" y="74"/>
                  <a:pt x="240" y="80"/>
                </a:cubicBezTo>
                <a:cubicBezTo>
                  <a:pt x="288" y="91"/>
                  <a:pt x="331" y="109"/>
                  <a:pt x="380" y="116"/>
                </a:cubicBezTo>
                <a:cubicBezTo>
                  <a:pt x="392" y="120"/>
                  <a:pt x="403" y="127"/>
                  <a:pt x="416" y="128"/>
                </a:cubicBezTo>
                <a:cubicBezTo>
                  <a:pt x="452" y="131"/>
                  <a:pt x="524" y="136"/>
                  <a:pt x="524" y="136"/>
                </a:cubicBezTo>
                <a:cubicBezTo>
                  <a:pt x="567" y="150"/>
                  <a:pt x="592" y="146"/>
                  <a:pt x="648" y="148"/>
                </a:cubicBezTo>
                <a:cubicBezTo>
                  <a:pt x="736" y="166"/>
                  <a:pt x="827" y="151"/>
                  <a:pt x="916" y="144"/>
                </a:cubicBezTo>
                <a:cubicBezTo>
                  <a:pt x="958" y="130"/>
                  <a:pt x="1011" y="134"/>
                  <a:pt x="1056" y="128"/>
                </a:cubicBezTo>
                <a:cubicBezTo>
                  <a:pt x="1108" y="111"/>
                  <a:pt x="1158" y="101"/>
                  <a:pt x="1212" y="96"/>
                </a:cubicBezTo>
                <a:cubicBezTo>
                  <a:pt x="1252" y="86"/>
                  <a:pt x="1291" y="74"/>
                  <a:pt x="1328" y="5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3240" y="3498840"/>
            <a:ext cx="450720" cy="1397160"/>
          </a:xfrm>
          <a:custGeom>
            <a:avLst/>
            <a:gdLst/>
            <a:ahLst/>
            <a:rect l="l" t="t" r="r" b="b"/>
            <a:pathLst>
              <a:path w="284" h="880">
                <a:moveTo>
                  <a:pt x="0" y="880"/>
                </a:moveTo>
                <a:cubicBezTo>
                  <a:pt x="16" y="856"/>
                  <a:pt x="28" y="832"/>
                  <a:pt x="44" y="808"/>
                </a:cubicBezTo>
                <a:cubicBezTo>
                  <a:pt x="51" y="798"/>
                  <a:pt x="64" y="784"/>
                  <a:pt x="68" y="772"/>
                </a:cubicBezTo>
                <a:cubicBezTo>
                  <a:pt x="75" y="750"/>
                  <a:pt x="77" y="741"/>
                  <a:pt x="96" y="728"/>
                </a:cubicBezTo>
                <a:cubicBezTo>
                  <a:pt x="104" y="703"/>
                  <a:pt x="111" y="679"/>
                  <a:pt x="124" y="656"/>
                </a:cubicBezTo>
                <a:cubicBezTo>
                  <a:pt x="129" y="648"/>
                  <a:pt x="140" y="632"/>
                  <a:pt x="140" y="632"/>
                </a:cubicBezTo>
                <a:cubicBezTo>
                  <a:pt x="148" y="600"/>
                  <a:pt x="161" y="569"/>
                  <a:pt x="176" y="540"/>
                </a:cubicBezTo>
                <a:cubicBezTo>
                  <a:pt x="194" y="503"/>
                  <a:pt x="202" y="449"/>
                  <a:pt x="216" y="408"/>
                </a:cubicBezTo>
                <a:cubicBezTo>
                  <a:pt x="228" y="372"/>
                  <a:pt x="231" y="323"/>
                  <a:pt x="252" y="292"/>
                </a:cubicBezTo>
                <a:cubicBezTo>
                  <a:pt x="257" y="251"/>
                  <a:pt x="258" y="209"/>
                  <a:pt x="268" y="168"/>
                </a:cubicBezTo>
                <a:cubicBezTo>
                  <a:pt x="273" y="122"/>
                  <a:pt x="278" y="77"/>
                  <a:pt x="284" y="32"/>
                </a:cubicBezTo>
                <a:cubicBezTo>
                  <a:pt x="280" y="3"/>
                  <a:pt x="280" y="13"/>
                  <a:pt x="280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erra" descr=""/>
          <p:cNvPicPr/>
          <p:nvPr/>
        </p:nvPicPr>
        <p:blipFill>
          <a:blip r:embed="rId1"/>
          <a:stretch/>
        </p:blipFill>
        <p:spPr>
          <a:xfrm>
            <a:off x="2209680" y="100332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52480" y="685800"/>
            <a:ext cx="5715000" cy="5486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4140000">
            <a:off x="6408720" y="2346480"/>
            <a:ext cx="176076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ETAMÓR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320000">
            <a:off x="5455800" y="5310360"/>
            <a:ext cx="185904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2640000">
            <a:off x="1639800" y="5105520"/>
            <a:ext cx="1941480" cy="55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DEPÓSI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SEDIM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7640000">
            <a:off x="1501560" y="2187000"/>
            <a:ext cx="98748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RO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ÍG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5800" y="577800"/>
            <a:ext cx="985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 Gothic MT"/>
              </a:rPr>
              <a:t>M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5360" y="749160"/>
            <a:ext cx="1758960" cy="1079640"/>
          </a:xfrm>
          <a:custGeom>
            <a:avLst/>
            <a:gdLst/>
            <a:ahLst/>
            <a:rect l="l" t="t" r="r" b="b"/>
            <a:pathLst>
              <a:path w="1108" h="680">
                <a:moveTo>
                  <a:pt x="0" y="0"/>
                </a:moveTo>
                <a:cubicBezTo>
                  <a:pt x="5" y="1"/>
                  <a:pt x="11" y="3"/>
                  <a:pt x="16" y="4"/>
                </a:cubicBezTo>
                <a:cubicBezTo>
                  <a:pt x="32" y="6"/>
                  <a:pt x="48" y="5"/>
                  <a:pt x="64" y="8"/>
                </a:cubicBezTo>
                <a:cubicBezTo>
                  <a:pt x="106" y="15"/>
                  <a:pt x="146" y="33"/>
                  <a:pt x="188" y="40"/>
                </a:cubicBezTo>
                <a:cubicBezTo>
                  <a:pt x="233" y="70"/>
                  <a:pt x="293" y="68"/>
                  <a:pt x="340" y="92"/>
                </a:cubicBezTo>
                <a:cubicBezTo>
                  <a:pt x="380" y="112"/>
                  <a:pt x="423" y="127"/>
                  <a:pt x="460" y="152"/>
                </a:cubicBezTo>
                <a:cubicBezTo>
                  <a:pt x="471" y="160"/>
                  <a:pt x="488" y="157"/>
                  <a:pt x="500" y="164"/>
                </a:cubicBezTo>
                <a:cubicBezTo>
                  <a:pt x="532" y="182"/>
                  <a:pt x="561" y="208"/>
                  <a:pt x="596" y="220"/>
                </a:cubicBezTo>
                <a:cubicBezTo>
                  <a:pt x="615" y="248"/>
                  <a:pt x="640" y="252"/>
                  <a:pt x="668" y="268"/>
                </a:cubicBezTo>
                <a:cubicBezTo>
                  <a:pt x="709" y="291"/>
                  <a:pt x="677" y="279"/>
                  <a:pt x="704" y="288"/>
                </a:cubicBezTo>
                <a:cubicBezTo>
                  <a:pt x="711" y="309"/>
                  <a:pt x="723" y="309"/>
                  <a:pt x="744" y="316"/>
                </a:cubicBezTo>
                <a:cubicBezTo>
                  <a:pt x="748" y="317"/>
                  <a:pt x="756" y="320"/>
                  <a:pt x="756" y="320"/>
                </a:cubicBezTo>
                <a:cubicBezTo>
                  <a:pt x="781" y="345"/>
                  <a:pt x="811" y="369"/>
                  <a:pt x="840" y="388"/>
                </a:cubicBezTo>
                <a:cubicBezTo>
                  <a:pt x="847" y="399"/>
                  <a:pt x="868" y="416"/>
                  <a:pt x="880" y="420"/>
                </a:cubicBezTo>
                <a:cubicBezTo>
                  <a:pt x="886" y="438"/>
                  <a:pt x="905" y="450"/>
                  <a:pt x="920" y="460"/>
                </a:cubicBezTo>
                <a:cubicBezTo>
                  <a:pt x="923" y="464"/>
                  <a:pt x="925" y="469"/>
                  <a:pt x="928" y="472"/>
                </a:cubicBezTo>
                <a:cubicBezTo>
                  <a:pt x="931" y="475"/>
                  <a:pt x="937" y="476"/>
                  <a:pt x="940" y="480"/>
                </a:cubicBezTo>
                <a:cubicBezTo>
                  <a:pt x="956" y="498"/>
                  <a:pt x="957" y="512"/>
                  <a:pt x="976" y="524"/>
                </a:cubicBezTo>
                <a:cubicBezTo>
                  <a:pt x="994" y="552"/>
                  <a:pt x="983" y="545"/>
                  <a:pt x="1004" y="552"/>
                </a:cubicBezTo>
                <a:cubicBezTo>
                  <a:pt x="1009" y="568"/>
                  <a:pt x="1014" y="575"/>
                  <a:pt x="1028" y="584"/>
                </a:cubicBezTo>
                <a:cubicBezTo>
                  <a:pt x="1042" y="605"/>
                  <a:pt x="1053" y="609"/>
                  <a:pt x="1068" y="628"/>
                </a:cubicBezTo>
                <a:cubicBezTo>
                  <a:pt x="1080" y="644"/>
                  <a:pt x="1089" y="670"/>
                  <a:pt x="1108" y="6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095920" y="1991520"/>
            <a:ext cx="77040" cy="13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9334400">
            <a:off x="2096280" y="99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crist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0" y="4582440"/>
            <a:ext cx="77040" cy="131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380800">
            <a:off x="830880" y="32047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mete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4276200">
            <a:off x="1298520" y="425736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ero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42200" y="5967000"/>
            <a:ext cx="141840" cy="5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580800">
            <a:off x="4063680" y="5859360"/>
            <a:ext cx="1227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diagén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66"/>
                </a:solidFill>
                <a:latin typeface="News Gothic MT"/>
              </a:rPr>
              <a:t>(litific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61720" y="3441600"/>
            <a:ext cx="72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7411400">
            <a:off x="6775560" y="406836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News Gothic MT"/>
              </a:rPr>
              <a:t>metamorfis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8:21:04Z</dcterms:created>
  <dc:creator>Universidad de Chile</dc:creator>
  <dc:description/>
  <dc:language>en-US</dc:language>
  <cp:lastModifiedBy>Compaq</cp:lastModifiedBy>
  <dcterms:modified xsi:type="dcterms:W3CDTF">2001-08-23T02:55:23Z</dcterms:modified>
  <cp:revision>16</cp:revision>
  <dc:subject/>
  <dc:title>ROCAS METAMÓRFICAS</dc:title>
</cp:coreProperties>
</file>